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media/image10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2"/>
          </p:nvPr>
        </p:nvSpPr>
        <p:spPr>
          <a:xfrm>
            <a:off x="39762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3000" cy="348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-3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4"/>
          </p:nvPr>
        </p:nvSpPr>
        <p:spPr>
          <a:xfrm>
            <a:off x="397620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B915E4-B7E2-4A30-9119-795D9BB34BBB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D8056D-A3A7-4E37-B17B-F4EB145399DF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You need inventory to run any system – but the key question is “how much do you need to run smoothly” and try to stay close to this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F7305B-F75F-4985-8000-087C4EF16245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397836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120B27C-DF64-48CA-8674-E4AB72F4AC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89080" y="70020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36720" y="4419720"/>
            <a:ext cx="5146560" cy="41860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omething that the customer is willing to pay for…if they knew you did it.  If the customer saw it on an invoice, they would not question i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f you removed a process step, and it had a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egativ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impact on what the customer cares about, the step is considered to be 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Arial"/>
              </a:rPr>
              <a:t>“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value-added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Arial"/>
              </a:rPr>
              <a:t>”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54BD1-F78A-4BE3-9C24-316E6B8B40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A183B-94EE-44CA-B94D-B40CC2BB13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972FB-EBBC-4C87-B22E-CB4900BD14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1808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1684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1896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1808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1684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134D7-E340-48A0-82D7-76F490C073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218960" y="1447560"/>
            <a:ext cx="739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F460D-2751-46D3-A868-03B67ED143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71808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1684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21896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71808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1684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B4838-305A-4A6D-A9E7-7487C5F0F5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86FD7-D3B6-4680-90F2-967DC80888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E5B9D-2011-4BF5-AE75-3D097773C1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218960" y="1447560"/>
            <a:ext cx="739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1C58C-080F-4E40-95F9-6E9B2FE06B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52688-1FCB-4C43-A829-19C51EF588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E15BD-B4C0-4FB5-A6B6-146E3B7615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AEFE5-8FEA-468D-B685-D10E44AF87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IRB-Inside-ppt"/>
          <p:cNvPicPr/>
          <p:nvPr/>
        </p:nvPicPr>
        <p:blipFill>
          <a:blip r:embed="rId2"/>
          <a:stretch/>
        </p:blipFill>
        <p:spPr>
          <a:xfrm>
            <a:off x="-1440" y="0"/>
            <a:ext cx="914688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51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51"/>
              </a:spcBef>
              <a:buClr>
                <a:srgbClr val="c7d1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20B44-1336-40C3-BA83-83B46A7CFE22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IRB-Cover-ppt"/>
          <p:cNvPicPr/>
          <p:nvPr/>
        </p:nvPicPr>
        <p:blipFill>
          <a:blip r:embed="rId2"/>
          <a:stretch/>
        </p:blipFill>
        <p:spPr>
          <a:xfrm>
            <a:off x="0" y="0"/>
            <a:ext cx="9147240" cy="685944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51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51"/>
              </a:spcBef>
              <a:buClr>
                <a:srgbClr val="c7d1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09680" y="2590560"/>
            <a:ext cx="50292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Arial"/>
              </a:rPr>
              <a:t>The Eight Wast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209680" y="5028840"/>
            <a:ext cx="5029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6 May, 201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Arial"/>
              </a:rPr>
              <a:t>Inventory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When work piles up and stops flowing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Arial"/>
              </a:rPr>
              <a:t>Full in-box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Arial"/>
              </a:rPr>
              <a:t>Large batch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Hides flow, so it cannot be address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Example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full mailbox"/>
          <p:cNvPicPr/>
          <p:nvPr/>
        </p:nvPicPr>
        <p:blipFill>
          <a:blip r:embed="rId1"/>
          <a:stretch/>
        </p:blipFill>
        <p:spPr>
          <a:xfrm>
            <a:off x="6227640" y="1197000"/>
            <a:ext cx="230508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Arial"/>
              </a:rPr>
              <a:t>Mo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Employees move more tha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required to do their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Arial"/>
              </a:rPr>
              <a:t>Walking too far to hand-off file, documen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Arial"/>
              </a:rPr>
              <a:t>Walking too far to use equip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Example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blurry person office motion"/>
          <p:cNvPicPr/>
          <p:nvPr/>
        </p:nvPicPr>
        <p:blipFill>
          <a:blip r:embed="rId1"/>
          <a:stretch/>
        </p:blipFill>
        <p:spPr>
          <a:xfrm>
            <a:off x="6804000" y="1484280"/>
            <a:ext cx="177480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3640" y="141264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Arial"/>
              </a:rPr>
              <a:t>Excessive Processing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When data is processed more than requi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Arial"/>
              </a:rPr>
              <a:t>Re-entry of dat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Arial"/>
              </a:rPr>
              <a:t>Collection and entering of unnecessary data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Example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multiple re entry processing"/>
          <p:cNvPicPr/>
          <p:nvPr/>
        </p:nvPicPr>
        <p:blipFill>
          <a:blip r:embed="rId1"/>
          <a:stretch/>
        </p:blipFill>
        <p:spPr>
          <a:xfrm>
            <a:off x="6372360" y="1268280"/>
            <a:ext cx="2447640" cy="162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Content Placeholder 4" descr="questions.jpg"/>
          <p:cNvPicPr/>
          <p:nvPr/>
        </p:nvPicPr>
        <p:blipFill>
          <a:blip r:embed="rId1"/>
          <a:stretch/>
        </p:blipFill>
        <p:spPr>
          <a:xfrm>
            <a:off x="3564000" y="3068640"/>
            <a:ext cx="192384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1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E96CC-83BB-40D3-BBFF-16135B0E088F}" type="slidenum">
              <a:rPr b="0" lang="en-C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4360" y="206064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hat matter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” at the end of the da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“why are we here”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t IRB:  What th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earing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needs to deliver 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Fai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Efficient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In accordance with the law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13A68-5203-4F7B-9556-3AA29964DE8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000" y="1268280"/>
            <a:ext cx="88390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Valu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"/>
          <p:cNvPicPr/>
          <p:nvPr/>
        </p:nvPicPr>
        <p:blipFill>
          <a:blip r:embed="rId1"/>
          <a:stretch/>
        </p:blipFill>
        <p:spPr>
          <a:xfrm>
            <a:off x="7164360" y="1341360"/>
            <a:ext cx="15271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Arial"/>
              </a:rPr>
              <a:t>Wast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Anything that does not add value to the cli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Anything that interrupts the flow of the file through the syst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Waste: 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Consumes Time / $ but does not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       add value to the Hear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2819160"/>
            <a:ext cx="361944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499"/>
              </a:spcBef>
              <a:buClr>
                <a:srgbClr val="63a6b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efects (correc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99"/>
              </a:spcBef>
              <a:buClr>
                <a:srgbClr val="63a6b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3300"/>
                </a:solidFill>
                <a:latin typeface="Arial"/>
              </a:rPr>
              <a:t>O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ver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99"/>
              </a:spcBef>
              <a:buClr>
                <a:srgbClr val="63a6b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3300"/>
                </a:solidFill>
                <a:latin typeface="Arial"/>
              </a:rPr>
              <a:t>W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ai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99"/>
              </a:spcBef>
              <a:buClr>
                <a:srgbClr val="63a6b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ot fully utilizing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99"/>
              </a:spcBef>
              <a:buClr>
                <a:srgbClr val="63a6b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3300"/>
                </a:solidFill>
                <a:latin typeface="Arial"/>
              </a:rPr>
              <a:t>T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ran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99"/>
              </a:spcBef>
              <a:buClr>
                <a:srgbClr val="63a6b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nven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99"/>
              </a:spcBef>
              <a:buClr>
                <a:srgbClr val="63a6b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3300"/>
                </a:solidFill>
                <a:latin typeface="Arial"/>
              </a:rPr>
              <a:t>M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o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99"/>
              </a:spcBef>
              <a:buClr>
                <a:srgbClr val="63a6b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xcessive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003280" y="2852640"/>
            <a:ext cx="36198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Arial"/>
              </a:rPr>
              <a:t>Incomplete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Arial"/>
              </a:rPr>
              <a:t>Processing too soon or of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Arial"/>
              </a:rPr>
              <a:t>Looking for things, approv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Arial"/>
              </a:rPr>
              <a:t>Limited decision-ma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Arial"/>
              </a:rPr>
              <a:t>Too many handoffs of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Arial"/>
              </a:rPr>
              <a:t>Full in-boxes, large ba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Arial"/>
              </a:rPr>
              <a:t>Employees move too m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Arial"/>
              </a:rPr>
              <a:t>Multiple re-entering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Arial"/>
              </a:rPr>
              <a:t>Defec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When a piece of work must be re-done, corrected, or is passed on to the next step incomple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Example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incomplete puzzle"/>
          <p:cNvPicPr/>
          <p:nvPr/>
        </p:nvPicPr>
        <p:blipFill>
          <a:blip r:embed="rId1"/>
          <a:stretch/>
        </p:blipFill>
        <p:spPr>
          <a:xfrm>
            <a:off x="6227640" y="1268280"/>
            <a:ext cx="2087640" cy="15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Arial"/>
              </a:rPr>
              <a:t>Overproduc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When the file is processed too much or too frequentl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Arial"/>
              </a:rPr>
              <a:t>Reports that are not us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Arial"/>
              </a:rPr>
              <a:t>Documents that are “rubber-stamped”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Arial"/>
              </a:rPr>
              <a:t>Information collected but not us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Arial"/>
              </a:rPr>
              <a:t>Processing sooner than is need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Example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inventory excessive bike"/>
          <p:cNvPicPr/>
          <p:nvPr/>
        </p:nvPicPr>
        <p:blipFill>
          <a:blip r:embed="rId1"/>
          <a:stretch/>
        </p:blipFill>
        <p:spPr>
          <a:xfrm>
            <a:off x="6300720" y="1268280"/>
            <a:ext cx="237492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Arial"/>
              </a:rPr>
              <a:t>Waiting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When the file flow is stopped to wait fo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75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Arial"/>
              </a:rPr>
              <a:t>Looking for documen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75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75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Arial"/>
              </a:rPr>
              <a:t>Approvals, signatur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75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Arial"/>
              </a:rPr>
              <a:t>System downtim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75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Arial"/>
              </a:rPr>
              <a:t>Interrupt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Example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waiting sign"/>
          <p:cNvPicPr/>
          <p:nvPr/>
        </p:nvPicPr>
        <p:blipFill>
          <a:blip r:embed="rId1"/>
          <a:stretch/>
        </p:blipFill>
        <p:spPr>
          <a:xfrm>
            <a:off x="6443640" y="1197000"/>
            <a:ext cx="1590840" cy="15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Arial"/>
              </a:rPr>
              <a:t>Not fully utilizing peop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When people are not used to their full potent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Arial"/>
              </a:rPr>
              <a:t>Decisions are made at levels higher than necessary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Arial"/>
              </a:rPr>
              <a:t>People not trained enough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Arial"/>
              </a:rPr>
              <a:t>Changing priorities that prevent people from attaining resul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Arial"/>
              </a:rPr>
              <a:t>Work assignments are not balanced across the tea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When files and informa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travel further than necessa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Arial"/>
              </a:rPr>
              <a:t>Too many handoff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Arial"/>
              </a:rPr>
              <a:t>Physical distance travelled too gre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Slows down the flow and reduces human feedba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Example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distance transport"/>
          <p:cNvPicPr/>
          <p:nvPr/>
        </p:nvPicPr>
        <p:blipFill>
          <a:blip r:embed="rId1"/>
          <a:stretch/>
        </p:blipFill>
        <p:spPr>
          <a:xfrm>
            <a:off x="7020000" y="1197000"/>
            <a:ext cx="18000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21:37:58Z</dcterms:created>
  <dc:creator>Craig Szelestowski</dc:creator>
  <dc:description/>
  <dc:language>en-US</dc:language>
  <cp:lastModifiedBy>Jarvis, Mark</cp:lastModifiedBy>
  <dcterms:modified xsi:type="dcterms:W3CDTF">2014-01-31T13:53:24Z</dcterms:modified>
  <cp:revision>14</cp:revision>
  <dc:subject/>
  <dc:title>The Nine Wastes</dc:title>
</cp:coreProperties>
</file>